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E16-3545-4F5E-B2B9-B9378237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1DE-095C-43AA-AAD0-4AED0A06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EEA-6F49-4165-8CE9-96D68590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564-477F-4D9A-A840-2919EA43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AB4E-BCBA-4151-9F1F-A977E194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ECF4-B2FC-4D4E-94A4-713827C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72C1-A4F5-4A1A-A136-6EFD951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74B0-DE16-429F-A311-AF0D054A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F592-2E24-48C8-8B06-A9405EC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0B8A-6B2D-4A0C-B358-A4C241DB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5DDA-7C39-4F8C-8E6C-3612232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6E0-AB84-44D0-8AE5-7E9AC6C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9133-B3B5-4A8B-B380-CE084EFA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F14-9017-423B-819D-6A0FF53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BC0-9F70-424F-9071-5BDAD05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39DC-3F79-4E3C-9EA8-058F369F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588-93D9-4656-A155-6DD5518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379-F685-4AEB-BDCD-C1262D1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4D3-7749-4CA9-BA7C-936B8C9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CCC-CE6B-4C54-8AC1-0AB9C8C0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2BC-4880-4B24-9509-2A207BD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EED-6076-4BBF-A072-54B11E6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2A9-99DE-495C-9815-09A22C9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35F-814E-4D9D-B955-DC1E952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0E6-D2A8-4CAF-AB63-671B2DF0DE4E}" type="datetime3">
              <a:rPr b="0" lang="en-US" sz="1200" spc="-1" strike="noStrike">
                <a:solidFill>
                  <a:srgbClr val="000000"/>
                </a:solidFill>
                <a:latin typeface="Verdana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87C-FAB6-4019-B6A1-C71ED1F80F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C198-923C-47B9-917D-ACCE2CBA95EF}" type="datetime3">
              <a:rPr b="0" lang="en-US" sz="1200" spc="-1" strike="noStrike">
                <a:solidFill>
                  <a:srgbClr val="000000"/>
                </a:solidFill>
                <a:latin typeface="Verdana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4E4-3D21-4DC0-9195-D606A61E45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slide6.xml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tralized Public Grievance Redress and Monitoring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bordinate office level training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ailway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anks and Banking ombudsm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surance se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lecommunication (BSNL&amp;MTNL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ssport Divi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nistry of Overseas Affai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il Companies in Ministry of Petroleum &amp; Natural G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t of NCT of Delhi &amp; its various organisations like MCD,NDMC, DTC, BSES/NDP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EC &amp; CBD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dentification of organizations not responsive to citizens are train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E1F-A51A-4E6F-A6F1-192DF4EE68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A5973-FAB3-43A1-9DC3-DDFCF7214A4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 10 user Ministries/Depart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2057400"/>
          <a:ext cx="7840800" cy="3962520"/>
        </p:xfrm>
        <a:graphic>
          <a:graphicData uri="http://schemas.openxmlformats.org/drawingml/2006/table">
            <a:tbl>
              <a:tblPr/>
              <a:tblGrid>
                <a:gridCol w="5316480"/>
                <a:gridCol w="2524320"/>
              </a:tblGrid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ordinate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al Board of Excise and Customs (D/o Revenu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artment of Financial Services, Banking Divi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al Board of Direct Taxes (Income Tax) (D/o Revenu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stry of Railways, ( Railway Board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artment of Commer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artment of Telecommunication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stry of Defen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nicipal Corporation of Delhi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PARTMENT OF ATOMIC ENERG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stry of Cultur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79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stry of External Affair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31B-9FEE-4C2B-B879-546A9C229F0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16078-2956-4F73-9D40-0962947D1A5A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ear wise receipt of Grieva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4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752480"/>
          <a:ext cx="785808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752480"/>
                    <a:ext cx="7858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0" y="613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F0E-6D9F-4C1B-97D2-8E48C12BD4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CF06B-F82F-45B9-8977-BCC54ABAB94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ear wise dispos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1752480"/>
          <a:ext cx="7619760" cy="414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2480"/>
                    <a:ext cx="761976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496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5D7-AD1D-4C0F-A7B1-CFBB0CFC7A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EA9F5-B91E-4301-9EEA-E1DFF6BD54C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ate of Dispos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838080" y="1752480"/>
          <a:ext cx="762012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752480"/>
                    <a:ext cx="7620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C14-CFDC-4E38-B139-F7E715D00D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E86BF-D4EA-4C72-A295-99FF6DF978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nefits to the Citiz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stal grievances lodged on the system on behalf of the citizen by DARPG, immediate acknowledgement giv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venient </a:t>
            </a:r>
            <a:r>
              <a:rPr b="0" lang="en-US" sz="25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online lodging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and monitoring of grievanc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cility to view status and details of nodal officers handling grieva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acility to issue remind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edy redress of grieva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icy guidelines and grievance redress mechanism available on por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l action taken is informed to the citiz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912-81D1-46F8-9CAC-ACB0E58C26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96AF0-22FD-411D-BADF-A5CFBB42C7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y Forwa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ing local language interfa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lot projects in Haryana &amp; Rajasthan -customise the software for State governments/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ility to citizen to reach out subordinate organisations direc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ing operational training to improve usage of softw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rther advising organisations to improve their public grievance redress systems &amp; make systemic improv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odical monitoring &amp; review of pending grievances to ensure timely re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38B-341B-4A14-8E53-7377A032F1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90FB-4E6B-482D-A0F2-599D8F277EB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16761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205-3723-4A12-87C1-E45DB05F3C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B4B26-7A45-4CD8-ABC7-C44AE7D5F2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457200"/>
          <a:ext cx="9144000" cy="64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57200" y="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 pgportal. gov.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ievance Registration 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380880"/>
          <a:ext cx="9144000" cy="649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91440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7D4-A98E-4E8E-A21A-B815975E34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1418B-AB53-491E-8F79-993775F80B4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Nodal Depart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epartment of Administrative Reforms &amp; Public Grievances (DARPG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icy, coordination and monitoring of issues relating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dress of public grievances in gener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ievances pertaining to Central Government agenc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irectorate of Public Grievances, Cabinet Secretariat (DPG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 up in 199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s as an appellat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estigates selected grievan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 notified departments having large public interfa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678-8AB8-4099-A961-C87DAE5C9F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81F01-5375-4E9C-85E7-41623A1775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" y="763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toring De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16B-4609-4723-843D-8F8BF9EDA9D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61BAC-48DA-4A53-8FE9-B8573F511A3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erational De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8381880" y="61722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59D-D3A8-461F-B32A-7313E24FAF8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D974-2882-4596-95D5-7DFC5474EA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ievance Redress Machine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Ministry/Departments of Central Gov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signated Director of Public Grievance - rank of joint secret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ubordinate Organi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U, Boards, zonal offices, field offices and attached offices have their own elaborate grievance redress machin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ate Gover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s a designated nodal officer for Public Grieva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cates with Central Government  in the matter of grieva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C40-5E64-4151-AF3D-54ADBFFAAD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93AD-3FD7-462A-9D6A-63A7AB685E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762120" y="10144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enario before introduction of CP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990720"/>
            <a:ext cx="8610480" cy="5173560"/>
            <a:chOff x="304920" y="990720"/>
            <a:chExt cx="8610480" cy="5173560"/>
          </a:xfrm>
        </p:grpSpPr>
        <p:sp>
          <p:nvSpPr>
            <p:cNvPr id="94" name="Oval 4"/>
            <p:cNvSpPr/>
            <p:nvPr/>
          </p:nvSpPr>
          <p:spPr>
            <a:xfrm>
              <a:off x="1271520" y="2744640"/>
              <a:ext cx="2498760" cy="1141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RPG &amp; D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6342120" y="2587680"/>
              <a:ext cx="2573280" cy="1312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stries / Depar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1295280" y="21337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 flipH="1">
              <a:off x="3255480" y="1930320"/>
              <a:ext cx="51444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>
              <a:off x="3200400" y="990720"/>
              <a:ext cx="2573280" cy="984240"/>
            </a:xfrm>
            <a:prstGeom prst="irregularSeal2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9"/>
            <p:cNvGrpSpPr/>
            <p:nvPr/>
          </p:nvGrpSpPr>
          <p:grpSpPr>
            <a:xfrm>
              <a:off x="3657240" y="1905120"/>
              <a:ext cx="3675240" cy="1835640"/>
              <a:chOff x="3657240" y="1905120"/>
              <a:chExt cx="3675240" cy="1835640"/>
            </a:xfrm>
          </p:grpSpPr>
          <p:cxnSp>
            <p:nvCxnSpPr>
              <p:cNvPr id="100" name="AutoShape 6"/>
              <p:cNvCxnSpPr>
                <a:stCxn id="95" idx="1"/>
                <a:endCxn id="94" idx="6"/>
              </p:cNvCxnSpPr>
              <p:nvPr/>
            </p:nvCxnSpPr>
            <p:spPr>
              <a:xfrm rot="5400000">
                <a:off x="4804560" y="1580760"/>
                <a:ext cx="654480" cy="2949840"/>
              </a:xfrm>
              <a:prstGeom prst="bentConnector4">
                <a:avLst>
                  <a:gd name="adj1" fmla="val -59603"/>
                  <a:gd name="adj2" fmla="val 56377"/>
                </a:avLst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101" name="Text Box 7"/>
              <p:cNvSpPr/>
              <p:nvPr/>
            </p:nvSpPr>
            <p:spPr>
              <a:xfrm>
                <a:off x="4906800" y="2955240"/>
                <a:ext cx="15433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nu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ansmi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4980600" y="3323520"/>
                <a:ext cx="1323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4465800" y="1905120"/>
                <a:ext cx="28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lectronic Transmi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3021120"/>
                <a:ext cx="132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rward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0"/>
            <p:cNvGrpSpPr/>
            <p:nvPr/>
          </p:nvGrpSpPr>
          <p:grpSpPr>
            <a:xfrm>
              <a:off x="3200040" y="3733920"/>
              <a:ext cx="3682800" cy="1386720"/>
              <a:chOff x="3200040" y="3733920"/>
              <a:chExt cx="3682800" cy="1386720"/>
            </a:xfrm>
          </p:grpSpPr>
          <p:cxnSp>
            <p:nvCxnSpPr>
              <p:cNvPr id="106" name="AutoShape 5"/>
              <p:cNvCxnSpPr>
                <a:stCxn id="95" idx="3"/>
                <a:endCxn id="94" idx="5"/>
              </p:cNvCxnSpPr>
              <p:nvPr/>
            </p:nvCxnSpPr>
            <p:spPr>
              <a:xfrm rot="5400000">
                <a:off x="4861080" y="2072520"/>
                <a:ext cx="213840" cy="3536640"/>
              </a:xfrm>
              <a:prstGeom prst="bentConnector3">
                <a:avLst>
                  <a:gd name="adj1" fmla="val 287015"/>
                </a:avLst>
              </a:prstGeom>
              <a:ln w="22320">
                <a:solidFill>
                  <a:srgbClr val="000000"/>
                </a:solidFill>
                <a:miter/>
                <a:tailEnd len="med" type="oval" w="med"/>
              </a:ln>
            </p:spPr>
          </p:cxnSp>
          <p:sp>
            <p:nvSpPr>
              <p:cNvPr id="107" name="Text Box 16"/>
              <p:cNvSpPr/>
              <p:nvPr/>
            </p:nvSpPr>
            <p:spPr>
              <a:xfrm>
                <a:off x="3276720" y="4478040"/>
                <a:ext cx="360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nual Transmission of Action Re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726080" y="5105520"/>
              <a:ext cx="293760" cy="458640"/>
              <a:chOff x="4726080" y="5105520"/>
              <a:chExt cx="293760" cy="458640"/>
            </a:xfrm>
          </p:grpSpPr>
          <p:sp>
            <p:nvSpPr>
              <p:cNvPr id="109" name="Line 24"/>
              <p:cNvSpPr/>
              <p:nvPr/>
            </p:nvSpPr>
            <p:spPr>
              <a:xfrm flipV="1">
                <a:off x="4726080" y="510552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5"/>
              <p:cNvSpPr/>
              <p:nvPr/>
            </p:nvSpPr>
            <p:spPr>
              <a:xfrm flipV="1">
                <a:off x="4872960" y="510552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6"/>
              <p:cNvSpPr/>
              <p:nvPr/>
            </p:nvSpPr>
            <p:spPr>
              <a:xfrm flipV="1">
                <a:off x="5019840" y="510552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Line 27"/>
            <p:cNvSpPr/>
            <p:nvPr/>
          </p:nvSpPr>
          <p:spPr>
            <a:xfrm flipV="1">
              <a:off x="5167440" y="5105520"/>
              <a:ext cx="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4211640" y="5638680"/>
              <a:ext cx="1542960" cy="525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sibility of d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8"/>
            <p:cNvSpPr/>
            <p:nvPr/>
          </p:nvSpPr>
          <p:spPr>
            <a:xfrm>
              <a:off x="609480" y="3591000"/>
              <a:ext cx="1176480" cy="1050840"/>
            </a:xfrm>
            <a:prstGeom prst="flowChartMagneticDisk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iev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7593120" y="3525840"/>
              <a:ext cx="1101600" cy="984240"/>
            </a:xfrm>
            <a:prstGeom prst="flowChartMagneticDisk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iev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1565280" y="5297400"/>
              <a:ext cx="1911240" cy="72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izen can view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1638360" y="4641840"/>
              <a:ext cx="2937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752480"/>
              <a:ext cx="198108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ost or In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405-5EAD-45BF-9244-81D92ED579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9A27D-4607-43B6-8D0A-7CEFDD54F350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itations of the old PGRA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izen unable to view the status of griev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ay in forwarding grieva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entralized databank /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ffective monitoring system at the Ministry/Department leve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ievances not accessible by the subordinate offices through th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orts of disposal received manu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37A-CB37-4B57-B418-838CDDE192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541A4-9727-48BB-B3CD-2CF1CD8A9F4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unch of Centralized Public Grievance Redress and Monitoring System (CPGRAM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89120" y="1825560"/>
            <a:ext cx="77040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itial implementation - June 2007; established - 2008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G portal accessible at </a:t>
            </a: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www.pgportal.gov.i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vers all Ministries/Departments of GO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b based, therefore Ministries/Departments do not require separate serv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so covers subordinate and attached offices within the Ministries and further field off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duction/elimination of correspondence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s integration of manual complaints with electronic complaints by scann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72AF-CEDD-4F1F-8946-79C8231AB8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6F279-174D-4F04-81F3-98C616AB3CB2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4"/>
          <p:cNvSpPr/>
          <p:nvPr/>
        </p:nvSpPr>
        <p:spPr>
          <a:xfrm>
            <a:off x="1066680" y="304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enario after introduction of CP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096920"/>
            <a:ext cx="8686800" cy="5455800"/>
            <a:chOff x="0" y="1096920"/>
            <a:chExt cx="8686800" cy="5455800"/>
          </a:xfrm>
        </p:grpSpPr>
        <p:sp>
          <p:nvSpPr>
            <p:cNvPr id="125" name="Oval 17"/>
            <p:cNvSpPr/>
            <p:nvPr/>
          </p:nvSpPr>
          <p:spPr>
            <a:xfrm>
              <a:off x="0" y="4373280"/>
              <a:ext cx="2548080" cy="1026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RPG/D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7"/>
            <p:cNvSpPr/>
            <p:nvPr/>
          </p:nvSpPr>
          <p:spPr>
            <a:xfrm>
              <a:off x="2478240" y="1096920"/>
              <a:ext cx="1965240" cy="931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izen c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dge griev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view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5510160" y="5364000"/>
              <a:ext cx="2414520" cy="1188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 Subordinate 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ached Off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2333520" y="3153960"/>
              <a:ext cx="10112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 flipH="1">
              <a:off x="4500720" y="2925360"/>
              <a:ext cx="48240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8"/>
            <p:cNvSpPr/>
            <p:nvPr/>
          </p:nvSpPr>
          <p:spPr>
            <a:xfrm>
              <a:off x="3344760" y="3763800"/>
              <a:ext cx="1517760" cy="1549080"/>
            </a:xfrm>
            <a:prstGeom prst="flowChartMagneticDisk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ize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2"/>
            <p:cNvSpPr/>
            <p:nvPr/>
          </p:nvSpPr>
          <p:spPr>
            <a:xfrm>
              <a:off x="6014880" y="4296960"/>
              <a:ext cx="234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eipt of Grievances &amp; Transmission of action taken 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4861080" y="5135400"/>
              <a:ext cx="79344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9"/>
            <p:cNvSpPr/>
            <p:nvPr/>
          </p:nvSpPr>
          <p:spPr>
            <a:xfrm>
              <a:off x="2478240" y="4982760"/>
              <a:ext cx="8665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1828800" y="5516280"/>
              <a:ext cx="267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Grievances &amp; receipt of Action Repo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6272280" y="3078000"/>
              <a:ext cx="2414520" cy="807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stries 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4138560" y="1935000"/>
              <a:ext cx="216540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2696760"/>
              <a:ext cx="18892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st or In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 flipH="1">
              <a:off x="1757160" y="1782360"/>
              <a:ext cx="865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 flipV="1">
              <a:off x="4932360" y="3839760"/>
              <a:ext cx="1660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4282920" y="2315880"/>
              <a:ext cx="1724040" cy="1077480"/>
            </a:xfrm>
            <a:prstGeom prst="irregularSeal2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295280" y="3306600"/>
              <a:ext cx="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163-6B2C-4850-B0B6-E30F0F61D7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11995-0C4D-440B-86F4-724B625B1E5F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Monitoring De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effective monitoring by Director of Public Grievances in Ministries/Departments and DARP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monitoring by organisational h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Operational De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 transmission from headquarters to zonal offices and further to field units to allow decentralized settlement of griev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ievances can be accessed by subordinate off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as well as reply to the citizen can be filed 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9F8-4E95-406E-BF11-42BE8A0FA7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B08CA-AC96-45E5-82AB-7E30DBB0A9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Steps taken by DARPG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of pending grievances with Ministries/Depar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rterly by Secret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nthly by Joint. Secret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for effective implementation of system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dquarters PG officers &amp; NIC staff of 89 Ministries/ Departments tr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artment having large public interface trained at headquarter and subordinate officer level to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efore Secretary (AR&amp;PG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C3B-4970-485E-A4BB-0E6727B6E0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E51D7-35B6-44C1-90B8-6189962BE8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45:15Z</dcterms:created>
  <dc:creator>DSPG</dc:creator>
  <dc:description/>
  <dc:language>en-US</dc:language>
  <cp:lastModifiedBy>DSPG</cp:lastModifiedBy>
  <dcterms:modified xsi:type="dcterms:W3CDTF">2010-07-15T10:46:12Z</dcterms:modified>
  <cp:revision>18</cp:revision>
  <dc:subject/>
  <dc:title>Centralized Public Grievance Redress and Monitoring System</dc:title>
</cp:coreProperties>
</file>